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D27-30F5-4591-903C-EA4BF95C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1ED-32F2-4775-95E2-BAAE77E1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959-044D-43EA-963F-F0CFCEFF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110-58CF-4DED-AE7E-024F03AD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00C6-8F63-4205-9C93-16E82119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D3AC-BA17-4336-9F8B-7F37F4BC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5BCD-C81B-4CC2-BBC8-01F9D9F0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6C87-789B-4D7D-A6B6-FDA5BD69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76FE-5BAE-458E-A6DA-EF92E57C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BC99-0B18-4EF8-B50E-BDD6DB34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D05C-7BDA-4D46-B696-8BFD5D11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5CB-4151-492F-8C22-52A9431B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0927-016E-4AA0-83E5-03988EBB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1601-0913-4E80-A5C3-9608B19C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B0A5-C541-4DCA-845B-B80B142C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FC17-C540-44CC-9F1F-F81278A3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3F5D-EEE7-48B9-80D9-57029D52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CC4-7EAD-4DBB-ADAE-FD2CD3D6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09C-423D-449D-BC96-2B7877BA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849-D646-44B9-908F-94CB6FB3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D5F-ECA1-43BA-97E7-64D8B1CA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429-480A-4AFC-8D87-8B45E57D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C4D-383E-4AF4-90C2-F0203709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958-2A9A-4EF3-9BE6-40015941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6D36-2A75-4324-A935-363267D47A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559B-D385-4641-8C82-2DFF8CED26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 The Days of the Judg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63600"/>
            <a:ext cx="797724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Jephthah’s Clash With Ephraimit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phraimites are incensed against Jephth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he did not call them to war against the Ammon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threaten his destruction, v.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vindicates himself, v. 2-3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arms the Gileadites against the men of Ephra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fight against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kill forty-two thousand Ephraimites at the passages of Jordan, v. 4-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5791320" y="762120"/>
            <a:ext cx="205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phrai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5880" y="228600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ilea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514600" y="990720"/>
            <a:ext cx="3200400" cy="3047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8640" y="2743200"/>
            <a:ext cx="243828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Next Three Judg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phthah dies, having judged Israel six years, v. 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zan judges for seven years, v. 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osterity and death, v. 9-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on judges for ten years, and dies, v. 11-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don judges for eight years, v. 1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osterity and death, v. 14-1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 Coming Jud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sraelites corrupt themselves, and are delivered into the hands of the Philistines forty years, v.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ngel appears to the wife of Manoah, foretells the birth of her 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her directions how to treat both herself and her child, who was to be a deliverer of Israel, v. 2-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informs her husband of this transaction, v. 6-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Coming Jud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oah prays that the Angel may reapp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el repeats his former directions concerning the mother and the child, v. 8-1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oah presents an offering to the Lord, and the Angel ascends in the flame, v. 15-2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oah is alarmed, but is comforted by the judicious reflections of his wife, v. 21-2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son is born, and begins to feel the influence of the Divine Spirit, v. 24-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mson’s Weaknesses And Strength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son marries a wife of the Philistines, 14:1-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ays a young lion at Timnath, in the carcass of which he afterwards finds a swarm of bees, v. 5-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makes a f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appoint him thirty companions, to whom he puts forth a riddle, which they cannot expound, v. 10-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entice his wife to get the interpretation from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e succeeds, informs them, and they tell the explanation, v. 15-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is incensed, and slays thirty of the Philistines, v. 19-2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5:49:30Z</dcterms:created>
  <dc:creator>Terry W. Benton</dc:creator>
  <dc:description/>
  <dc:language>en-US</dc:language>
  <cp:lastModifiedBy>Terry W. Benton</cp:lastModifiedBy>
  <dcterms:modified xsi:type="dcterms:W3CDTF">2005-02-14T16:46:45Z</dcterms:modified>
  <cp:revision>1</cp:revision>
  <dc:subject/>
  <dc:title>In The Days of the Judges</dc:title>
</cp:coreProperties>
</file>